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26A-7458-4209-BD58-41FC6CC7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ADE-99ED-446C-844F-96390824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E4035-5356-4E5A-9A49-E8BBFF90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B5CAD-0A82-410A-8E31-B762C24E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06229-BB0C-42A8-B6FA-BBD75850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39A8A-55A3-4183-9985-E0411894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B26E4-34F3-4228-8A08-3EB46B22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31081-7A2F-4DD9-80E9-91258041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E4095-7F05-493F-84B7-82E6DC90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7094A-31F7-464B-B56D-3351EEED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7D2D7-57C8-44BA-9B05-0F696CB8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B430A-252F-4850-B6ED-554C8AA3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5A0-D7D7-4887-9E15-034EF6A1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8D9B7-234B-4D2F-A559-6BFC9D34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B3BD7-3C2E-4C83-805D-CE01FDB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237EF-7406-4EA0-9DD2-D695AAF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B6518-4C5C-4761-B3B2-7BD86C18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7530C-2D1A-406C-BD79-0F792E0B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2E077-1D66-448A-A34F-99030329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B5416-90F6-46AE-92C4-4E86FFE1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3C255-CEF4-4FF9-8910-567242D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E44D8-A842-42B6-A4AB-3A9D90A7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E6C8A-FAC2-4603-B134-59B9847E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44E-240A-4CEB-909A-FA3663E6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2A117-6C79-451F-938A-AF2D0EEE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3951F-D07A-46C1-A324-BBAC9C6C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7427D-6F90-4678-8447-1C6427C1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A30BB-DFDE-40C7-AEA6-7B8D8411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7FC5A-9676-4AB1-B9B2-1666CF71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0AE5D-B6D3-4479-B1C3-FC87CA6C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31937-5F0C-4C0C-899B-6929A160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A8719-051D-4652-B407-4143FA2C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D4AF2-5E4D-4BCD-8DE9-C05D543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05BFD-9DF5-49A8-9B22-14F2419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F8AE-2E73-4A5C-95DB-3DE8AD6B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859AA-6077-454F-B973-7C723A33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41BCD-AB08-45DC-B40C-B6D3D79D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F8260-9F2C-43D5-B4A9-8ADF0261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37961-8C2C-470B-8D11-6A0EE085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88EAF-2A2B-4436-9A7C-E030838D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C1575-1F06-4353-92CF-97CC95B4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9E13C-F252-44BD-B977-E36DA634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9FDE2-D15C-47FA-B3BA-A2F4F4C1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BC65E-F897-49A8-ACAE-5DD969A9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F2870-7691-4510-BF65-03CD10D1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5DD-666D-4803-A6DD-ACF732DF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CB6CD-C480-480F-8A5A-3F5BB2CC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D8084-EBDB-468C-8299-E2643F12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AC80E-7B15-462A-A250-E8D59847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74F9B-7A61-4962-B562-343DC646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1C1D3-769E-4F72-A3AA-1F4EB5F4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84B96-C0C9-4E02-AD81-3F0AFFBC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5EFDA-95BC-4E0C-A72B-C134A764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2167B-AE78-48A8-A531-F14EA8C5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9E35A-3F36-4A11-8D76-25784899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C10D9-12A5-4E00-B95D-87B7FDC4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EF93-E45C-4F1C-AC79-C858817F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360A4-942E-471B-A2E1-930728D9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764EC-59AE-42B6-9799-DE4C0C1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2151F-E6EB-421B-BEDE-A1CD95CB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8951F-AC14-45BE-840C-80EB5F7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3B3BB-F3CD-4C6D-B6BC-23D45930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84A0C-8290-4A85-BA45-B265FDBB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3B62D-A3FB-4297-8D0A-69060F02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97D5D-7BAA-4F6A-98C8-A23AC877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EA467-7A7E-4273-9D94-1B427D0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BEC24-B471-4AED-A95F-12A96B93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AC6E-7C27-44EA-97B4-AD9EA1A9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10FE9-86C6-4094-A171-6BA40686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238AD-AAAD-4319-96C0-B4602A07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CF694-19BB-4B7A-B3C9-9B7ED84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697B9-A38E-447A-8D72-84769AFA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89396-2ABF-4769-BAA7-D0A5A9CC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ECC83-AFD5-4FB3-8223-5ADF4124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352D9-E748-4E1A-882C-162C5E94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7DC3B-6319-4668-9C93-17FAFB20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778A7-B7A8-4AB1-94C6-95413A95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95CC2-7C0C-4A54-A5AB-F86F33B1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CA04-CFAB-431F-B027-503600ED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998258-051E-4F09-AA39-92BDA9D3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12115-B24F-4484-95C7-427D056D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B7E74-FCC6-4E22-A7FE-159AC6EF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76E60-2AC1-49E7-8ECD-4BA73599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4EC31-107E-49E1-8789-AA567A1F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9FE0B-0B07-4156-8D6C-7DF492A9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58ED5-519C-40B0-A491-D49A0BAF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92AD9-95A7-4EE5-86B9-E0A39637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C9F3F-E0CD-4997-A103-1B676DE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628B5-1A89-41AD-AD8A-64913F73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7546-C96C-4FD2-8AF1-1BAC4C7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3B128-A0A3-47DF-84E2-BBE54A9F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3D00-AD0F-4CD4-A709-EACF590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10D-F31D-4800-A0B8-EFC8CB41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6925-44CF-4C51-A115-2382FA1C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25DB-C1D0-4D04-9932-F3FA71DB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E9CB-C25B-4F75-AB51-0437810F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6042-F2ED-43E7-BF5B-F5A7FAF4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7848-87B0-4138-A443-3B28B112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8F71-C570-4585-BF64-649C25D8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7EBA-1C9D-491E-962A-9700C485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2391-0789-44C4-BD44-29DCBF41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3FA3-6E34-40A1-BFCB-9F9B803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E0FF-3482-457D-B6A7-E56C7326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195-21E1-4F96-A6BA-5AFFE28E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DE81-4BED-4D14-95FA-76310D49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6E59-F8E5-420A-9D80-FAAFF6D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86F6-58E1-4BA0-903C-C8133AB9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4759-55B6-420D-B1FD-BAF5FFA7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A2A7-E29C-4817-A403-7E11044E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4BC2-5D0C-433F-B6E2-8D5380F8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18E2-3633-4C86-94EB-E42EDB04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19A4-741A-4100-A11E-90ACD26E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9E9FE-B9CB-4873-B0FA-61FF6E4D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84387-5EBD-4168-873A-B34E6AD2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CDF-C469-4D47-9D8F-980178C8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A6919-9004-4BFA-B1C4-C0770736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1525-17AB-4376-B248-276F3C87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CD8B-1D9B-45B0-9BD1-B315FCA5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7358-A558-4BBE-B7C4-5950BF6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9B62-D517-4137-A246-97E3E3FD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6A47-16E6-4CC0-8472-791270D0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0F603-0D24-48E7-AE36-DC3063B0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C3039-7698-48E4-988C-A17A0226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EAD0-1637-4BAD-B1A6-550A8C31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F581D-19B4-47C9-92FC-07549C1E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AF5-93D1-4095-B8B2-5C18742A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A8B5-D9FA-4165-8EC7-9B8A371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513E0-986E-4564-9EFB-F9264FD3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5321-6DF0-47A3-B0DE-67EDA90F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6D7A2-823D-41F9-B643-7F2AAB5F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AAED-FA62-402D-9DD2-76F3A13B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0A1B-1B89-4BD7-861E-1111D71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87F44-A04C-4292-86E9-F35A1458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60EA8-8A77-49B3-AF5D-E7903A36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D35B-B4D1-4BFA-B609-AE301F30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0D959-AE74-4455-8001-2B6C5156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F69-EE71-4458-BD2B-9218B0C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6ACBB-8235-4AAC-B3CA-C66FD6AC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47618-8B91-4816-8423-77C7FEBB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5AB1-98B9-4969-ADC8-B18E3C3C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5B276-2E50-4E84-862B-BFFA92F9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F61DE-8DD6-432C-929B-91CDF77E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80FD-C905-4ADF-B288-AE764674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44DF6-38DA-4D24-992C-CAD92E45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FAF6F-BD20-41A9-BF30-8736E521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0848E-B545-42FA-9834-4787F99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9B91-1612-46E4-AD82-33DE1C01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6E6-9793-4B22-93B1-7BE8FBC8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6CF14-1532-418F-8D2F-6A61CA61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C393-095C-4D0A-B51B-317BA4FD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9682-ADC5-4F64-940B-B69CA181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C337C-B94E-4A3E-85B2-2B98590C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2DCD-8A4A-48C9-9D3C-8EC3F94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8C996-D315-4AD5-8889-7F44CB23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2490-00E3-4047-B2C6-07641908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D9307-F6B6-47FD-80EF-2B07C00B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137A9-698B-4B23-8430-45B7E6BA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11068-07F5-450D-A2DD-C3022B51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365-6316-4819-BF50-423565E5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7CB40-A78E-416C-BE23-7BF99A8C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5B470-E607-4673-9C6E-793919A5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0449A-B9C8-4B6F-B1B1-2589E14B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1B8A8-6137-46CD-8C96-02F393C8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5FDA5-0C8B-4840-9967-AD78A6BE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4698F-3CE2-42F5-9107-9B8C2412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DB5AE-DB91-4283-A0A7-BEC248B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470E0-20F7-405D-AD76-0DC312B9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AF931-4676-449A-86A5-BA374209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A8B5-C28B-44A5-93F0-909CDAE6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6FF-E935-42B2-AA95-49077CF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4405F-8F71-4BCE-8679-5169336A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3D35E-17FD-4FF2-8A59-ECA7FD3F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851B7-3AA7-4216-94F4-4CA5CD0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319BC-2D5D-4385-A725-97957AA8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73474-FFA9-46E6-B147-0623C7A5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7C3FB-AFF7-4D58-AF7F-26A5F0C0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D083-DD8A-4DE8-8F89-6376AAFC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AFA84-F1EB-4A02-AE8D-6C2C0EED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F2412-7AC3-48CB-A1F8-74540DB3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0C902-6091-48C0-8CAB-8A44832A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D2BA3-783B-4E24-9278-30BD0F4A41AF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C30E9-3FE6-4DB2-8350-1BF553AE155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B8EA4-3D97-439E-92FC-5ECC6D824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D437C-8834-4737-9724-D19875D2CEEB}" type="slidenum"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D82AB-7E78-4EA8-BB32-88C10301B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5F694-8FBC-4478-92F9-0774CAF33967}" type="slidenum"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495DD-9FEF-4649-BBAA-A914284CDF9C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077B0-566B-4E04-A0DA-ACFB5FC4083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8ED9B-2A81-4337-BFD1-B18ACB47F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571C3-0769-46B0-9CF2-99DBDD065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507F5-8E3D-4CED-BE81-E1ECA3ABF46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4F852-A005-449A-ADA4-DFC6D33556F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B03E1-D75C-44BF-84B7-490FF9BE779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C6917-531B-4C7D-A6CB-53D0D20BB6E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4B8CD-3385-4F93-A786-73DDE560BAF8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371EE-55B7-4C1E-A9A0-1A11C55B243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0F579-9A05-412E-B65A-AA3440FFEA8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68D91-05A4-4660-B00F-D4610D3B262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1A2DA-3F9A-40D6-9023-849CB9CD6F29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128A9-55EE-45A5-AB5D-58E34567DE9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D5EC7-1BC6-4AF0-A644-024A657DE923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DE74B-418D-4EE5-B46C-86780197CB93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1EF51-30BC-4235-9B3F-FE94D94989C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3F3F8-F8FB-4EA9-B97B-5C11AC37D32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CE965-A0B1-4F72-A4BC-2BC00ADB3C8D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5F48A-6C93-4CC8-96AB-687051F62883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B40B1-2EA1-46ED-B226-8B70040946A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F4E0E-D2B0-4910-BADF-238C557A633C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BAED1-CA65-4CB8-964B-F04864EE7B8A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C6A28-F94A-40B5-9B0B-1BBCADD1238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ing Community Partners’ Motivations to Participate in Academic Outreach</a:t>
            </a:r>
            <a:br>
              <a:rPr sz="16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79040" y="4572000"/>
            <a:ext cx="7583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las Barrera, Ph.D.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California, Los Ange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RSLCE Annual Confer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imore, M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24, 201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cument analysis by cas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vided data by case &amp; constituency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st cycle coding within case looking for converging and diverging dat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cycle coding within case looking for categori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ustered categories across the case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D790C-9929-4B73-B1EB-0AFCAC51594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The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tioned and clustered the data (both interview &amp; document data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veloped emergent themes across cas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ivic interdependence emerged from themes on motiva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FE99D-8FBC-49F5-942C-5A3DAE85E98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B26C1-752D-45BF-9592-F6D2EB57243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4920" y="2971800"/>
            <a:ext cx="3657600" cy="2308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TUAL RESOURCE DEPEND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Task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Assista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Presti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Stud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4" name="Straight Connector 6"/>
          <p:cNvSpPr/>
          <p:nvPr/>
        </p:nvSpPr>
        <p:spPr>
          <a:xfrm>
            <a:off x="4267080" y="4114800"/>
            <a:ext cx="10162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5486400" y="2787480"/>
            <a:ext cx="344340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OLOGICAL 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Increase Access for U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12"/>
          <p:cNvSpPr/>
          <p:nvPr/>
        </p:nvSpPr>
        <p:spPr>
          <a:xfrm>
            <a:off x="533520" y="1600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s to Particip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Resource Depend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sk suppor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chnical assistanc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niversity prestig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cess to stud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5824C-5763-43AC-B533-E695496BADD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Mot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ed to increase acce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cial responsibility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67668-0867-43B3-8327-8CA64C90389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4560" y="160020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dget cuts have small impact on how partners view the progra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vic interdependence explains partners’ particip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tual need for resources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tual responsibility to address access gap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ared commitment to increase access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ared desire to increase engagemen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D68FC-3826-4FC1-9EE0-2A2B960389D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40F1C-F519-4D29-AB16-275FFF9E5AB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Diagram 4" descr=""/>
          <p:cNvPicPr/>
          <p:nvPr/>
        </p:nvPicPr>
        <p:blipFill>
          <a:blip r:embed="rId2"/>
          <a:stretch/>
        </p:blipFill>
        <p:spPr>
          <a:xfrm>
            <a:off x="1371600" y="2262240"/>
            <a:ext cx="68515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tribu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880" y="1600200"/>
            <a:ext cx="83822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ing the motivations of school partners to participate in academic outreach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th resource dependency and ideological motivations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tter understanding of what actions lead to good relationships between schools and universities in the context of academic outreach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s budget cuts have on these relationships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 of community voice to research on institutional civic engagement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CAC30-220F-4B6B-9EEE-447E800C49A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779040" y="3478320"/>
            <a:ext cx="758340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Information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g Barre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arrera@college.ucla.ed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CLA Center for Community Learn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communitylearning.ucla.ed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Responsibility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History of purposes extending to the public goo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Need to expand access to postsecondary educ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The role of outreach progra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8B890-4ECC-4AFF-A315-4AE65F4BA8C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terature on Outreach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79040" y="1828440"/>
            <a:ext cx="7983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ost studies focus on student outcomes (Gándara &amp; Bial, 2001; Gónzalez &amp; Moll, 2002; Tierney &amp; Jun, 2001) 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spcAft>
                <a:spcPts val="1001"/>
              </a:spcAft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ed research that focuses on the relationships with school partner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earing directly from community stakeholder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spcAft>
                <a:spcPts val="1001"/>
              </a:spcAft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effects of current economy on outreach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t means for the university meeting its diversity and social responsibility goal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E7707-5C74-4677-A477-A7560DD68B0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oretical framewor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4560" y="1345680"/>
            <a:ext cx="84582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the school partners participat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differentials (Emerson, 196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s dependent on resource-rich partners (Jacobs, 1974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 to reduce dependencies (Emerson, 196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(Hall et al, 1977; Lundin, 2007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yond material reasons (Johnson, 1995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vic Inter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AC648-1C38-4A48-9AC3-75C300B913D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earch Ques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do community partners participate in college preparation outreach?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es the university articulate its commitment to social responsibility and diversity, and how does participation in college preparation outreach affect community partners’ views of the university’s commitment?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F543C-97D0-4960-A1B9-206CE82AE19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79040" y="1828440"/>
            <a:ext cx="75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versity of the Public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versity Outreach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wide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with schools throughout re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underrepresented stud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advising for select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rest of school when availabl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B4567-F19A-4AF5-BB4E-03B8CB90C10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79040" y="1828440"/>
            <a:ext cx="758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&amp; Math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wide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with schools in narrow geographic are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all students in the schoo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prepare students to be STEM maj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s students for annual competi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533FD-8922-45C8-8DF5-8AEB0F2E558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ta Coll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79040" y="1345680"/>
            <a:ext cx="75834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cument Analysi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agreeme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material (web content &amp; brochu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partn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staf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rectors, two coordinators for U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protoco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 lasted average of 45 minu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58853-8B58-4DD9-8B1F-75FB6C79D26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mp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1676520"/>
            <a:ext cx="8534160" cy="48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ience &amp; Math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ly high school partn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4 teachers &amp; 2 counselo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program director at UP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ly high school partn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15 counselors (at 14 schools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program director and 2 site coordinators at UP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B373D-FA18-4246-8028-6C753748D0A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6:46:41Z</dcterms:created>
  <dc:creator>Douglas Barrera</dc:creator>
  <dc:description/>
  <dc:language>en-US</dc:language>
  <cp:lastModifiedBy>Douglas Barrera</cp:lastModifiedBy>
  <dcterms:modified xsi:type="dcterms:W3CDTF">2012-09-23T22:51:04Z</dcterms:modified>
  <cp:revision>43</cp:revision>
  <dc:subject/>
  <dc:title>Whose Job Is It Anyway? A Qualitative Exploration of Early Academic Outreach Through a Community-Campus Partnership Model </dc:title>
</cp:coreProperties>
</file>